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9C2B-8DD1-4C4C-8711-EB8B6C7D6E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«Красная кни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ий мир» 2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1FD5-4496-42AC-B550-360C443D62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ров подкармливали зимой, следи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ни не болели, тщательно ох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ли, особенно молодняк. Зубров спас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прошло около 8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ой является чрезмерная добы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, охота, разрушение мест о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F687-DB49-4D3C-AF48-1E6DE31B2C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елый журав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тер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 семейства ж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линых. Масса т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6-8 кг, выс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-1,4 метра. Сте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чис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, находя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рани исчез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0AB8-1799-4CD6-A1E0-C8D1C948A2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F3F3-7C98-4E87-B019-F0CA2E27B3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епард и ягу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ходятся на грани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356F-3F8E-49FA-9924-C63960965A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абочка адмир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пестр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ет на лес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шках, в садах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ах. Гусеницы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листьях крапив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полоха, культу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м не вре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баб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2105-02B4-4A05-8CC7-58C5F61421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Женьш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 с китайского «кор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, человек-кор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тение широко и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ется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доро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5CD-843B-430F-9438-84234D91CA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паль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вропейс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цветок в Удмур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италма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к назван куп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ей за то, что расте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лажных мест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т воду, люби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– берега р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отистые луга.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жалостно рвут э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, купальница с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м растением,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есена в Красную кни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BE41-822D-432A-8351-6E47366542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ая книга» - это не совсем обы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а. Цвет переплёта у этой книг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. Что символизирует кра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? Это сигнал тревоги, опасности, п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преждения. Он, как красный цвет св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фора, предупреждает: «Остор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случиться бед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76AB-BC9B-47B5-897D-21DDF40101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от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ое, красиво цветущее водное или околоводное раст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A51D-BE65-4D1C-ADFC-C6A584212B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ниге перечислены животны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которые могут безвозврат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уть. И, если мы не защитим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ия и животных, попавших в Крас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у, они погибнут. Спасение их невоз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без специальных мер: запр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ы, охраны в заповедниках, заботы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ёныш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3BA1-C57B-4AE1-B08F-B7D4E45EA2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ю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ём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или 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и. Длина их тела о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 метров, масса от 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 до 5 тонн. Тюлени п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ют в приполяр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ах. В России оби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9 видов настоя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42BE-A638-4F69-BDFD-3B174A99E0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 питаются р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, моллюсками, 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бразными. Числе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ть тюлений сок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ается и не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ходятся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8F00-E81F-4157-9E76-5335B53A65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л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и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арнокопы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копитающих 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шадей. У кулана 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шо развиты зр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х, обоняние. Ще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ок фотоаппарата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ышат на рассто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 60 метров. Кул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чаливы и редко к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т. Стада куланов п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ся сейчас только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ах Туркм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. Сейчас кулана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яют в нов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4E56-0EF8-4DAF-91E5-F21FB76799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Зуб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ились в 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 Белоруссии. В н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ле 20 века лю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истре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зубров. Оста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звери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 в зоопарках, - 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ук. Надо было сроч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пасать зубров.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тили в запов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 – Беловежс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E85B-76C4-42D3-9279-32CB36BB92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7FD-CDFB-4739-83FB-18B80427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C98-F51A-4A88-A8C1-B44E632E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C6C-5FFC-4DEB-B48B-9802F47C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E45-C03E-4943-AAB1-2121E9B3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C1B15-4CD4-440A-A243-267D58A6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99768-2876-4113-A093-CCD44D75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FB5AB-4364-4AE7-83A6-357FB48E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7A163-D1D0-42F7-8A39-E78D56E0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363FF-799B-4DD7-AA7A-068523AD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A25B5-AFA2-4ED2-A3BE-156117C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2D6EF-3659-45B5-85BA-C019FB3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41D-B03E-4F2F-BD47-D0EBE7DB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5E106-398E-4937-90E4-77A13C87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26478-ED90-44C0-BD91-F8B07742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69C58-07C8-4BF3-88E3-E18A67E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88ACF-2F83-4656-A9CD-B8C64CFA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3BD3-C479-4FAB-BCCF-8F2E35D0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F49-BD68-4E71-86D5-D9BF1600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581-BAF7-4771-AF67-C8BF033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D98-02E0-4911-8DA2-829B9829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F58-79AF-4C2C-97D4-24347CA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BAF-5A28-4551-8318-F48AA9A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A41-4A44-4098-ADFB-E82F07CB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C5A-FC2A-4606-9795-A09F463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5ED7-2B94-463C-9F5E-7C541F6A24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B4F-1257-4B9E-B8DA-B1C436D56D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«Красная книга»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кружающий мир» 2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ров подкармливали зимой, следи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ни не болели, тщательно охр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яли, особенно молодняк. Зубров спас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едь прошло около 8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розой является чрезмерная добы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ых, охота, разрушение мест об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Белый журав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стер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семейства ж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линых. Масса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6-8 кг, выс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-1,4 метра. Ст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ится к чис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ов, находя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грани исчезнов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46814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32360" cy="511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88800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79800" cy="489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5076720" y="188928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032000" cy="468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743640" cy="46083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Гепард и ягуар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находятся на грани исчезнове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07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4508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абочка адмир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раска пе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итает на лес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шках, в садах,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ках. Гусеницы 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стьях крапи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тополоха, культу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тениям не вред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енность баб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535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еньш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пере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 с китайского «ко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, человек-кор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широко 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ется в медиц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источ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репления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лева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2"/>
          <a:stretch/>
        </p:blipFill>
        <p:spPr>
          <a:xfrm>
            <a:off x="6048360" y="3618000"/>
            <a:ext cx="309564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пальниц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вропей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цветок в Удму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италма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ок назван купа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цей за то, что растет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влажных мест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 воду, люб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а – берега р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отистые луга.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жалостно рвут э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, купальница с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ким растением, 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есена в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ая книга» - это не совсем обы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. Цвет переплёта у этой книг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. Что символизирует крас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? Это сигнал тревоги, опасности, п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реждения. Он, как красный цвет св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фора, предупреждает: «Осторож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случиться бед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52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от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ое, красиво цветущее водное или околоводное раст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6692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489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72000" cy="43657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й книге перечислены животны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, которые могут безвозврат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чезнуть. И, если мы не защитим р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ия и животных, попавших в Крас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у, они погибнут. Спасение их невоз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без специальных мер: запр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оты, охраны в заповедниках, заботы 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ёныш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00720" y="404280"/>
            <a:ext cx="4186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юл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ьшинстве своём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или сред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и. Длина их тела о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6 метров, масса от 2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 до 5 тонн. Тюлени 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ают в приполя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тах. В России оби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т 9 видов насто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426240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юлени питаются р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, моллюсками, 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бразными. Числ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ть тюлений сок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ется и некотор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находятся п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895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382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ла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арнокопы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екопитающих р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шадей. У кулана 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шо развиты з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х, обоняние. Ще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к фотоаппарата 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ышат на рассто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 60 метров. Кул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аливы и редко к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т. Стада куланов п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ся сейчас только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ведниках Туркм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. Сейчас кулана р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яют в новые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21440" cy="5327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46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74508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7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уб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дились в л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 Белоруссии. В 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ле 20 века лю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истреб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 зубров. Ост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звери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 в зоопарках, -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ук. Надо было сроч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пасать зубров.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тили в заповед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 – Беловежск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3:32Z</dcterms:created>
  <dc:creator>USER</dc:creator>
  <dc:description/>
  <dc:language>en-US</dc:language>
  <cp:lastModifiedBy>LEGION2</cp:lastModifiedBy>
  <dcterms:modified xsi:type="dcterms:W3CDTF">2015-04-24T09:19:06Z</dcterms:modified>
  <cp:revision>11</cp:revision>
  <dc:subject/>
  <dc:title>«Красная книга»</dc:title>
</cp:coreProperties>
</file>